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ndara"/>
            </a:endParaRPr>
          </a:p>
        </p:txBody>
      </p:sp>
      <p:sp>
        <p:nvSpPr>
          <p:cNvPr id="5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move the slide</a:t>
            </a:r>
            <a:endParaRPr b="0" lang="en-US" sz="3600" spc="-1" strike="noStrike">
              <a:solidFill>
                <a:srgbClr val="ffffff"/>
              </a:solidFill>
              <a:latin typeface="Candara"/>
            </a:endParaRPr>
          </a:p>
        </p:txBody>
      </p:sp>
      <p:sp>
        <p:nvSpPr>
          <p:cNvPr id="5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F700-0F2B-4F13-8CCE-3DB269B85E6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48DB-4DB5-4106-B745-2AFAFA19C475}" type="slidenum">
              <a:rPr b="0" lang="en-US" sz="1200" spc="-1" strike="noStrike">
                <a:solidFill>
                  <a:srgbClr val="ffffff"/>
                </a:solidFill>
                <a:latin typeface="Calibri"/>
              </a:rPr>
              <a:t>&lt;number&gt;</a:t>
            </a:fld>
            <a:endParaRPr b="0" lang="en-US" sz="1200" spc="-1" strike="noStrike">
              <a:solidFill>
                <a:srgbClr val="ffffff"/>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6BA67-BB26-4401-BF4D-D8EE6B864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71721-0D89-4CAC-BCDB-BF2FE3EB5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0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0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FC9D5D-2B70-4207-8537-CD10F26C32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320CB3-4F86-46C2-B18A-2597F107C1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32D2B2-4728-485B-BFEC-02BE053CFB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0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0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1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F3D396-DFD7-4D6C-8B25-8B038C4234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1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DD71D3-00D3-4AB0-86AB-D595CDA1B3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1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0AC81C-2933-48A7-9763-E85C419A70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2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2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A8D026-CA43-45EB-A66D-03968DD1E1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2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2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2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2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BDADB8-0763-4096-B94D-8E7337AB85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2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2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3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3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3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3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E549F0-F6CC-4178-899D-FD7F763B79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8BAA6AD-2410-4005-BEBE-69A875B75C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85B59-76F1-4685-93C6-96F0DC332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4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DA575E-98FB-425F-B40B-529713CD7E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4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CCAD52-9A4C-4697-B60C-FBF652AEE5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5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5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85962D-0517-43A6-92C9-DB37D33287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1BEDAC-B8A5-4CFC-9E57-09D0016023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2F83AD-A80C-4F7C-8724-5471F634DD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5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5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5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559168-6675-488C-87A0-05B379FA1A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6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6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E8D690-4C82-44DB-ACDC-D3BEA9530E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6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E02E93-98AB-4AEC-B14E-978C616A77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6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6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356829-D475-48D7-BC81-AE9AB465B9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7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7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7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7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DFBB8D-911F-4D32-A17F-EA2C2A461C1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61CB8-35BB-4BAD-8E99-D075A0E74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7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7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7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7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8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8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EEE249C-AB30-4594-ABDE-295DEDB9FD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FF5733B-8DC0-4F7E-8B07-0C8DC2D9D8B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9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555F2A-8AF6-4740-932E-A7F91995EE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9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AD33C7-1BAE-4D61-A885-B567919E08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9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0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3B6BF4-995E-4BD1-B81A-AD07C2BB01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07A240-D240-4C15-9D49-C35AED1249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673135-C87F-485C-BD0A-754FB5CE93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0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0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D34286-9EC0-4691-8D57-9C9117E225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0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0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1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4E0754-D228-4E5F-8B32-3914B09320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1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C02DCF-C113-4DD8-8269-187C1EFB01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03EE7-1A9F-49DC-A0E9-F884AD482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1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1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BF967F-5A7D-4E99-95EA-4B3100CAE0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1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2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2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2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7EB23AF-7340-46CE-9725-912C711CB8C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2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2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2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2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2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2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FF2C085-8D75-486C-B1BF-EE6F8FE34E0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71389BC-062C-4DFD-B233-32A63B92C5C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4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6A744F-FCA1-4B08-91B2-F32637B0D0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4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16B357-C0D0-451E-B68B-7F30A3F043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4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4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A43E3F-9935-4CE4-B644-816F950A77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70B06F-444B-43B3-9D5D-AD200C73B1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377D06-6010-4671-A715-65B96C7163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5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5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5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121592-BD8C-4FC6-9EF6-21D3C0AF67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60"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959F1-5DD5-4174-B2F9-6D064FD9E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5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5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5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1DF7F4-7460-4763-B561-E0FD592F7C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6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FCB832-2C69-406A-A765-EB84107F1E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6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6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FB60AE-0C28-4274-8F92-A9F3447F6A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6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6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6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7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BC52FDB-C5BF-4F1A-BAE0-A236CBDC25C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7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7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7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7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7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7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130ED9E-FF9D-4CE3-9338-EA038FA7AF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62"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AE018-F5BA-4FC6-B320-80A64EE8E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37272-2788-4414-9C80-29E6DD15A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DE4F2-65A5-46F6-958E-F9DB2FDEE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743A7-5D53-4AF5-BC16-660B955E0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6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1B1B2-ED21-43D2-8B1C-B8DC5744B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0069A-A197-4C79-B10F-FBF0CA26D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7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5"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0ADE1-297C-454C-B096-2FDCA6699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7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9"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548C0-0DAB-4308-9012-0314DC887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81"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82"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EF2A9-B6EF-4642-820A-2C9D3CD41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8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8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8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87"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49A57-689C-46B4-A8DF-79B143E98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89"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0"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1"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2"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3"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4"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F2878-55C8-4E6C-AC4B-C2C1C5944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8D8EDF-6BB5-4F60-AB69-57EA8B0A3A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08"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F29C0B-094A-4A77-8BBC-44C62182D7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10"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D6C46F-96EF-43EA-B937-0AEE1B0034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09327B-CC7B-495B-AA08-A4086DDF95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A2D73D-E03C-4450-ADA3-36053FCC9E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5C1F0-DA72-46F4-9CA7-2463828ED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D75F4C-8DC1-45BF-BA80-84E8F43BAE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1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1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1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066F0F-127C-4807-A356-2003D2C0EC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2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2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23"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C9969E-8C0B-43E0-A4E6-6CC3DE9DCB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2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2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27"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A2ECDF-8065-41B6-8B3B-F19A12E6A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29"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30"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D3BDE5-D65C-48FA-8C4D-66E3856553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3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3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3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35"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E8CBDD-2D91-4E1F-AA2E-4E2C637FAD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37"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38"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39"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40"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41"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42"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0E40BD-3AA7-4A49-9A99-C9B546CC81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1C09F7-D90E-4B2F-AA61-980DB8D496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5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991726-F66B-48EC-A655-FE364BD80F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6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C793C4-E079-47D9-9C47-0096109958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8F61A-BAFB-4903-BB8E-D4E308267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6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6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B31F25-6293-4978-9126-85E5E3C834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9F7951-B34A-494E-A067-B68BD4CC55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3A4C06-7FC6-426D-A54B-11E02AF4BA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6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7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EAE68-8B29-498B-AD25-9C91F10AED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7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7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8890E6-3D85-4656-8BEC-D7E94EEC4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7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7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7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691F68-062A-4BB0-8F28-508E5D6386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8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8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AC49B8-5B92-4470-88F2-FDF34DDC1B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8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8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8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8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C5DE45-A0A9-40FA-AAD5-BF9843C41D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8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8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9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9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9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9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63CC9F-561B-47DB-956D-243890E6E9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93296B-5CAE-4985-BC58-3622FFC4A3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7E01A-8FDC-4F57-B23E-7B6C4FE16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0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ECA961-BA1A-48C3-AA41-7F971BD3D7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0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391C32-6C8C-46F2-90B3-22B0E382CA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1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1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2CCD9A-6E0A-4AF7-B599-40C6C36B4A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B35A22-7A05-496A-B52B-B39F2D4274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5C6C2F-AEEE-4185-8042-EEE3A1B4B0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1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1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DF0165-7894-4F57-89A0-0C866F0BFC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2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2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8C0394-F67B-439F-888D-DDC7137957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2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2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2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9D043-07B5-41D5-9EAD-030CD38186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2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2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AA0A6-88E5-459D-8B20-BC9F27DCA1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3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3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3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3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1D716E-670F-418B-9D80-D815FF8C50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C8289-ECDC-48F6-A591-EDEC12304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3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3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3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3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4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4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A38F4C-89D9-40EC-980D-91A73D1532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5345D5-251A-4AB0-9B4F-4F57146582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5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F7BC0C-7E33-4770-8195-4357CE9F7A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5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864A7E-B745-4A68-A338-81C5F01409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5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6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28A45E-A63B-4F00-95B5-6D0B0D4FF4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2A49F0-C07C-4F81-9BAC-01D64F04C7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82AA72-1627-4CC0-B774-AAD235DE41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6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8D8580-6A40-491C-9007-79CD1E9B51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6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7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337222-9EC0-4D55-A24E-F96F7DF0E1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7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7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70A35-A701-4A66-ADE5-AF73E306D5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5A2D3-566C-493C-8BBB-60356EE6F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7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7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07B2FD-45AC-4B1D-96E9-4AD7AB39BB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7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BBC110-AAE3-47DF-8BF8-2800E84B09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8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33D492-5144-4DDE-B38E-37F42F8810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ED58F8-3C6E-477A-B8CC-572ED09CD0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0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164B3C-D76D-4D89-A7AE-9CCD669C29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0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5D6D57-F968-4ACF-814B-2236FC6805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0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0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5CFBAA-DEBC-49DC-97B6-C12CE43698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B839DD-0422-4CB5-8BE6-6F908EC709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384928-99AA-48EB-9543-C450D3E8FA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1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F9FCB0-8617-44D2-BC05-B779535F11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4AE90-2B85-4B9A-BFD0-3AB92BE3E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1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1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2ED9DB-2902-443D-857C-092D430DE0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2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2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D36470-2869-4A92-A632-C300356ED4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2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2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E4E3E3-9234-4F4C-9181-BD1375F13D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2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2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2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3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D89829-FB95-445C-ACA1-2FB57CB8D1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3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3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3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3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3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3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238ACC-3D2D-479A-82C4-79A4F64FA4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1640DD-A35D-42FA-9CC5-FA61B5BE42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51"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E77768-07CA-466A-8762-D5BEDD2B45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53"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BB9EEE-7317-4E98-8898-DE304263F9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55"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56"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2C6A7D-832B-4DB4-8135-CA4F9B234F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082588-F1F7-4BF5-8F1F-19380915F3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18EEB-0FC0-4C40-BA3D-A8122E70E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8C8883-DB60-4F52-919D-1A80599B94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61"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62"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F9A133-DA81-4400-99FC-FF2B4D5DD6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66"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CB48F9-6FD6-4D6A-A18A-8C2B9F9D30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70"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07DCAB-3837-46AF-9A1D-36B5D0ED93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72"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73"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FF2BE8-AB3E-4ECA-9F84-99B2A9FB41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7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7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77"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78"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9980FA-62E3-4CEC-9611-DBE6C0DFB2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80"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81"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82"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83"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84"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85"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6BC437-F273-46E3-A75B-CEADB142AF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4334E7-4DD6-43D3-B488-CC47710AC3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9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5AAC85-E265-4201-8D71-35FFFA4C16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0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9B8954-D534-4091-946B-111DEBEC9C6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6480" y="-6480"/>
            <a:ext cx="9156960" cy="6870960"/>
            <a:chOff x="-6480" y="-6480"/>
            <a:chExt cx="9156960" cy="6870960"/>
          </a:xfrm>
        </p:grpSpPr>
        <p:pic>
          <p:nvPicPr>
            <p:cNvPr id="1" name="Rectangle 7" descr=""/>
            <p:cNvPicPr/>
            <p:nvPr/>
          </p:nvPicPr>
          <p:blipFill>
            <a:blip r:embed="rId3"/>
            <a:stretch/>
          </p:blipFill>
          <p:spPr>
            <a:xfrm>
              <a:off x="-6480" y="-6480"/>
              <a:ext cx="9156960" cy="687096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5" name="PlaceHolder 3"/>
          <p:cNvSpPr>
            <a:spLocks noGrp="1"/>
          </p:cNvSpPr>
          <p:nvPr>
            <p:ph type="dt" idx="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BF2B-64EE-49DB-9C13-AAF9922053C4}"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7" name="PlaceHolder 5"/>
          <p:cNvSpPr>
            <a:spLocks noGrp="1"/>
          </p:cNvSpPr>
          <p:nvPr>
            <p:ph type="sldNum" idx="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D501-1136-4F08-812F-D6854ACF27A9}"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4" name="Rectangle 7"/>
          <p:cNvGrpSpPr/>
          <p:nvPr/>
        </p:nvGrpSpPr>
        <p:grpSpPr>
          <a:xfrm>
            <a:off x="-6480" y="-6480"/>
            <a:ext cx="9156960" cy="6870960"/>
            <a:chOff x="-6480" y="-6480"/>
            <a:chExt cx="9156960" cy="6870960"/>
          </a:xfrm>
        </p:grpSpPr>
        <p:pic>
          <p:nvPicPr>
            <p:cNvPr id="435" name="Rectangle 7" descr=""/>
            <p:cNvPicPr/>
            <p:nvPr/>
          </p:nvPicPr>
          <p:blipFill>
            <a:blip r:embed="rId3"/>
            <a:stretch/>
          </p:blipFill>
          <p:spPr>
            <a:xfrm>
              <a:off x="-6480" y="-6480"/>
              <a:ext cx="9156960" cy="6870960"/>
            </a:xfrm>
            <a:prstGeom prst="rect">
              <a:avLst/>
            </a:prstGeom>
            <a:ln w="0">
              <a:noFill/>
            </a:ln>
          </p:spPr>
        </p:pic>
        <p:sp>
          <p:nvSpPr>
            <p:cNvPr id="43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43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31b6fd"/>
              </a:gs>
              <a:gs pos="100000">
                <a:srgbClr val="31b6fd"/>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43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5bd078"/>
              </a:gs>
              <a:gs pos="100000">
                <a:srgbClr val="5bd078"/>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43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44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44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44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443" name="PlaceHolder 3"/>
          <p:cNvSpPr>
            <a:spLocks noGrp="1"/>
          </p:cNvSpPr>
          <p:nvPr>
            <p:ph type="dt" idx="28"/>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E87A-C6A2-4246-8984-0E24C1CC6043}"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444" name="PlaceHolder 4"/>
          <p:cNvSpPr>
            <a:spLocks noGrp="1"/>
          </p:cNvSpPr>
          <p:nvPr>
            <p:ph type="ftr" idx="29"/>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445" name="PlaceHolder 5"/>
          <p:cNvSpPr>
            <a:spLocks noGrp="1"/>
          </p:cNvSpPr>
          <p:nvPr>
            <p:ph type="sldNum" idx="30"/>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0415-A8F0-4935-A7EE-3C16A9022B6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Rectangle 7"/>
          <p:cNvGrpSpPr/>
          <p:nvPr/>
        </p:nvGrpSpPr>
        <p:grpSpPr>
          <a:xfrm>
            <a:off x="-6480" y="-6480"/>
            <a:ext cx="9156960" cy="6870960"/>
            <a:chOff x="-6480" y="-6480"/>
            <a:chExt cx="9156960" cy="6870960"/>
          </a:xfrm>
        </p:grpSpPr>
        <p:pic>
          <p:nvPicPr>
            <p:cNvPr id="483" name="Rectangle 7" descr=""/>
            <p:cNvPicPr/>
            <p:nvPr/>
          </p:nvPicPr>
          <p:blipFill>
            <a:blip r:embed="rId3"/>
            <a:stretch/>
          </p:blipFill>
          <p:spPr>
            <a:xfrm>
              <a:off x="-6480" y="-6480"/>
              <a:ext cx="9156960" cy="6870960"/>
            </a:xfrm>
            <a:prstGeom prst="rect">
              <a:avLst/>
            </a:prstGeom>
            <a:ln w="0">
              <a:noFill/>
            </a:ln>
          </p:spPr>
        </p:pic>
        <p:sp>
          <p:nvSpPr>
            <p:cNvPr id="4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485"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31b6fd"/>
              </a:gs>
              <a:gs pos="100000">
                <a:srgbClr val="31b6fd"/>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486"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5bd078"/>
              </a:gs>
              <a:gs pos="100000">
                <a:srgbClr val="5bd078"/>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48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48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48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49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491" name="PlaceHolder 3"/>
          <p:cNvSpPr>
            <a:spLocks noGrp="1"/>
          </p:cNvSpPr>
          <p:nvPr>
            <p:ph type="dt" idx="3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D20F-60CC-47C1-856F-6E99AAC69C2C}"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492" name="PlaceHolder 4"/>
          <p:cNvSpPr>
            <a:spLocks noGrp="1"/>
          </p:cNvSpPr>
          <p:nvPr>
            <p:ph type="ftr" idx="32"/>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493" name="PlaceHolder 5"/>
          <p:cNvSpPr>
            <a:spLocks noGrp="1"/>
          </p:cNvSpPr>
          <p:nvPr>
            <p:ph type="sldNum" idx="3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0552-4553-422C-AC12-1CF30C26BB07}"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0" name="Rectangle 7"/>
          <p:cNvGrpSpPr/>
          <p:nvPr/>
        </p:nvGrpSpPr>
        <p:grpSpPr>
          <a:xfrm>
            <a:off x="-6480" y="-6480"/>
            <a:ext cx="9156960" cy="6870960"/>
            <a:chOff x="-6480" y="-6480"/>
            <a:chExt cx="9156960" cy="6870960"/>
          </a:xfrm>
        </p:grpSpPr>
        <p:pic>
          <p:nvPicPr>
            <p:cNvPr id="531" name="Rectangle 7" descr=""/>
            <p:cNvPicPr/>
            <p:nvPr/>
          </p:nvPicPr>
          <p:blipFill>
            <a:blip r:embed="rId3"/>
            <a:stretch/>
          </p:blipFill>
          <p:spPr>
            <a:xfrm>
              <a:off x="-6480" y="-6480"/>
              <a:ext cx="9156960" cy="6870960"/>
            </a:xfrm>
            <a:prstGeom prst="rect">
              <a:avLst/>
            </a:prstGeom>
            <a:ln w="0">
              <a:noFill/>
            </a:ln>
          </p:spPr>
        </p:pic>
        <p:sp>
          <p:nvSpPr>
            <p:cNvPr id="53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533"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31b6fd"/>
              </a:gs>
              <a:gs pos="100000">
                <a:srgbClr val="31b6fd"/>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534"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5bd078"/>
              </a:gs>
              <a:gs pos="100000">
                <a:srgbClr val="5bd078"/>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535"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536"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5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53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539" name="PlaceHolder 3"/>
          <p:cNvSpPr>
            <a:spLocks noGrp="1"/>
          </p:cNvSpPr>
          <p:nvPr>
            <p:ph type="dt" idx="3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DAB5-8393-4C5F-99C1-B218B234AB6C}"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540" name="PlaceHolder 4"/>
          <p:cNvSpPr>
            <a:spLocks noGrp="1"/>
          </p:cNvSpPr>
          <p:nvPr>
            <p:ph type="ftr" idx="35"/>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541" name="PlaceHolder 5"/>
          <p:cNvSpPr>
            <a:spLocks noGrp="1"/>
          </p:cNvSpPr>
          <p:nvPr>
            <p:ph type="sldNum" idx="3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F938-447D-4194-8034-E5F4C1BCC39D}"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6480" y="-6480"/>
            <a:ext cx="9156960" cy="6870960"/>
            <a:chOff x="-6480" y="-6480"/>
            <a:chExt cx="9156960" cy="6870960"/>
          </a:xfrm>
        </p:grpSpPr>
        <p:pic>
          <p:nvPicPr>
            <p:cNvPr id="45" name="Rectangle 7" descr=""/>
            <p:cNvPicPr/>
            <p:nvPr/>
          </p:nvPicPr>
          <p:blipFill>
            <a:blip r:embed="rId3"/>
            <a:stretch/>
          </p:blipFill>
          <p:spPr>
            <a:xfrm>
              <a:off x="-6480" y="-6480"/>
              <a:ext cx="9156960" cy="687096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47" name="Freeform 8"/>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31b6fd"/>
              </a:gs>
              <a:gs pos="100000">
                <a:srgbClr val="31b6fd"/>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grpSp>
        <p:nvGrpSpPr>
          <p:cNvPr id="48" name="Freeform 9"/>
          <p:cNvGrpSpPr/>
          <p:nvPr/>
        </p:nvGrpSpPr>
        <p:grpSpPr>
          <a:xfrm>
            <a:off x="-6480" y="5284800"/>
            <a:ext cx="9156960" cy="1457280"/>
            <a:chOff x="-6480" y="5284800"/>
            <a:chExt cx="9156960" cy="1457280"/>
          </a:xfrm>
        </p:grpSpPr>
        <p:pic>
          <p:nvPicPr>
            <p:cNvPr id="49" name="Freeform 9" descr=""/>
            <p:cNvPicPr/>
            <p:nvPr/>
          </p:nvPicPr>
          <p:blipFill>
            <a:blip r:embed="rId4"/>
            <a:stretch/>
          </p:blipFill>
          <p:spPr>
            <a:xfrm>
              <a:off x="-6480" y="5284800"/>
              <a:ext cx="9156960" cy="1457280"/>
            </a:xfrm>
            <a:prstGeom prst="rect">
              <a:avLst/>
            </a:prstGeom>
            <a:ln w="0">
              <a:noFill/>
            </a:ln>
          </p:spPr>
        </p:pic>
        <p:sp>
          <p:nvSpPr>
            <p:cNvPr id="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51" name="Freeform 10"/>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bdecc9"/>
              </a:gs>
              <a:gs pos="100000">
                <a:srgbClr val="9de3ae"/>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52"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3"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55"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56" name="PlaceHolder 3"/>
          <p:cNvSpPr>
            <a:spLocks noGrp="1"/>
          </p:cNvSpPr>
          <p:nvPr>
            <p:ph type="dt" idx="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E08D-A0CE-435D-B487-DE0A35FC20C3}"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57" name="PlaceHolder 4"/>
          <p:cNvSpPr>
            <a:spLocks noGrp="1"/>
          </p:cNvSpPr>
          <p:nvPr>
            <p:ph type="ftr" idx="5"/>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58" name="PlaceHolder 5"/>
          <p:cNvSpPr>
            <a:spLocks noGrp="1"/>
          </p:cNvSpPr>
          <p:nvPr>
            <p:ph type="sldNum" idx="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102A-F857-4423-A51E-E79BBECB62E4}"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 name="Rectangle 7"/>
          <p:cNvGrpSpPr/>
          <p:nvPr/>
        </p:nvGrpSpPr>
        <p:grpSpPr>
          <a:xfrm>
            <a:off x="-6480" y="-6480"/>
            <a:ext cx="9156960" cy="6870960"/>
            <a:chOff x="-6480" y="-6480"/>
            <a:chExt cx="9156960" cy="6870960"/>
          </a:xfrm>
        </p:grpSpPr>
        <p:pic>
          <p:nvPicPr>
            <p:cNvPr id="96" name="Rectangle 7" descr=""/>
            <p:cNvPicPr/>
            <p:nvPr/>
          </p:nvPicPr>
          <p:blipFill>
            <a:blip r:embed="rId3"/>
            <a:stretch/>
          </p:blipFill>
          <p:spPr>
            <a:xfrm>
              <a:off x="-6480" y="-6480"/>
              <a:ext cx="9156960" cy="6870960"/>
            </a:xfrm>
            <a:prstGeom prst="rect">
              <a:avLst/>
            </a:prstGeom>
            <a:ln w="0">
              <a:noFill/>
            </a:ln>
          </p:spPr>
        </p:pic>
        <p:sp>
          <p:nvSpPr>
            <p:cNvPr id="9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98"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31b6fd"/>
              </a:gs>
              <a:gs pos="100000">
                <a:srgbClr val="31b6fd"/>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99"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5bd078"/>
              </a:gs>
              <a:gs pos="100000">
                <a:srgbClr val="5bd078"/>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100"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101"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1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103"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104" name="PlaceHolder 3"/>
          <p:cNvSpPr>
            <a:spLocks noGrp="1"/>
          </p:cNvSpPr>
          <p:nvPr>
            <p:ph type="dt" idx="7"/>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1A0E-09F1-4C13-8128-9C30F1C12189}"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105" name="PlaceHolder 4"/>
          <p:cNvSpPr>
            <a:spLocks noGrp="1"/>
          </p:cNvSpPr>
          <p:nvPr>
            <p:ph type="ftr" idx="8"/>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106" name="PlaceHolder 5"/>
          <p:cNvSpPr>
            <a:spLocks noGrp="1"/>
          </p:cNvSpPr>
          <p:nvPr>
            <p:ph type="sldNum" idx="9"/>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8F99-9781-4B6B-A2A9-648D033E39D5}"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3" name="Rectangle 7"/>
          <p:cNvGrpSpPr/>
          <p:nvPr/>
        </p:nvGrpSpPr>
        <p:grpSpPr>
          <a:xfrm>
            <a:off x="-6480" y="-6480"/>
            <a:ext cx="9156960" cy="6870960"/>
            <a:chOff x="-6480" y="-6480"/>
            <a:chExt cx="9156960" cy="6870960"/>
          </a:xfrm>
        </p:grpSpPr>
        <p:pic>
          <p:nvPicPr>
            <p:cNvPr id="144" name="Rectangle 7" descr=""/>
            <p:cNvPicPr/>
            <p:nvPr/>
          </p:nvPicPr>
          <p:blipFill>
            <a:blip r:embed="rId3"/>
            <a:stretch/>
          </p:blipFill>
          <p:spPr>
            <a:xfrm>
              <a:off x="-6480" y="-6480"/>
              <a:ext cx="9156960" cy="6870960"/>
            </a:xfrm>
            <a:prstGeom prst="rect">
              <a:avLst/>
            </a:prstGeom>
            <a:ln w="0">
              <a:noFill/>
            </a:ln>
          </p:spPr>
        </p:pic>
        <p:sp>
          <p:nvSpPr>
            <p:cNvPr id="14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146" name="Freeform 8"/>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ade2fe"/>
              </a:gs>
              <a:gs pos="100000">
                <a:srgbClr val="83d3fe"/>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147" name="Freeform 9"/>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grpSp>
        <p:nvGrpSpPr>
          <p:cNvPr id="148" name="Freeform 10"/>
          <p:cNvGrpSpPr/>
          <p:nvPr/>
        </p:nvGrpSpPr>
        <p:grpSpPr>
          <a:xfrm>
            <a:off x="-6480" y="5284800"/>
            <a:ext cx="9156960" cy="1457280"/>
            <a:chOff x="-6480" y="5284800"/>
            <a:chExt cx="9156960" cy="1457280"/>
          </a:xfrm>
        </p:grpSpPr>
        <p:pic>
          <p:nvPicPr>
            <p:cNvPr id="149" name="Freeform 10" descr=""/>
            <p:cNvPicPr/>
            <p:nvPr/>
          </p:nvPicPr>
          <p:blipFill>
            <a:blip r:embed="rId4"/>
            <a:stretch/>
          </p:blipFill>
          <p:spPr>
            <a:xfrm>
              <a:off x="-6480" y="5284800"/>
              <a:ext cx="9156960" cy="1457280"/>
            </a:xfrm>
            <a:prstGeom prst="rect">
              <a:avLst/>
            </a:prstGeom>
            <a:ln w="0">
              <a:noFill/>
            </a:ln>
          </p:spPr>
        </p:pic>
        <p:sp>
          <p:nvSpPr>
            <p:cNvPr id="1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151"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52"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1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15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155" name="PlaceHolder 3"/>
          <p:cNvSpPr>
            <a:spLocks noGrp="1"/>
          </p:cNvSpPr>
          <p:nvPr>
            <p:ph type="dt" idx="10"/>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1B4D-CC95-4475-AFB6-91FDE9105727}"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156" name="PlaceHolder 4"/>
          <p:cNvSpPr>
            <a:spLocks noGrp="1"/>
          </p:cNvSpPr>
          <p:nvPr>
            <p:ph type="ftr" idx="11"/>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157" name="PlaceHolder 5"/>
          <p:cNvSpPr>
            <a:spLocks noGrp="1"/>
          </p:cNvSpPr>
          <p:nvPr>
            <p:ph type="sldNum" idx="12"/>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F1BB-BD90-4FD1-91AF-6AC8D7618742}"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Rectangle 7"/>
          <p:cNvGrpSpPr/>
          <p:nvPr/>
        </p:nvGrpSpPr>
        <p:grpSpPr>
          <a:xfrm>
            <a:off x="-6480" y="-6480"/>
            <a:ext cx="9156960" cy="6870960"/>
            <a:chOff x="-6480" y="-6480"/>
            <a:chExt cx="9156960" cy="6870960"/>
          </a:xfrm>
        </p:grpSpPr>
        <p:pic>
          <p:nvPicPr>
            <p:cNvPr id="195" name="Rectangle 7" descr=""/>
            <p:cNvPicPr/>
            <p:nvPr/>
          </p:nvPicPr>
          <p:blipFill>
            <a:blip r:embed="rId3"/>
            <a:stretch/>
          </p:blipFill>
          <p:spPr>
            <a:xfrm>
              <a:off x="-6480" y="-6480"/>
              <a:ext cx="9156960" cy="6870960"/>
            </a:xfrm>
            <a:prstGeom prst="rect">
              <a:avLst/>
            </a:prstGeom>
            <a:ln w="0">
              <a:noFill/>
            </a:ln>
          </p:spPr>
        </p:pic>
        <p:sp>
          <p:nvSpPr>
            <p:cNvPr id="19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19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5bd078"/>
              </a:gs>
              <a:gs pos="100000">
                <a:srgbClr val="5bd078"/>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19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31b6fd"/>
              </a:gs>
              <a:gs pos="100000">
                <a:srgbClr val="31b6fd"/>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19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0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20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203" name="PlaceHolder 3"/>
          <p:cNvSpPr>
            <a:spLocks noGrp="1"/>
          </p:cNvSpPr>
          <p:nvPr>
            <p:ph type="dt" idx="13"/>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794D-D0D4-440B-8485-D4923A3E3833}"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204" name="PlaceHolder 4"/>
          <p:cNvSpPr>
            <a:spLocks noGrp="1"/>
          </p:cNvSpPr>
          <p:nvPr>
            <p:ph type="ftr" idx="14"/>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205" name="PlaceHolder 5"/>
          <p:cNvSpPr>
            <a:spLocks noGrp="1"/>
          </p:cNvSpPr>
          <p:nvPr>
            <p:ph type="sldNum" idx="15"/>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9A6B-0E64-4D3D-8653-CC544F9DE529}"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2" name="Rectangle 7"/>
          <p:cNvGrpSpPr/>
          <p:nvPr/>
        </p:nvGrpSpPr>
        <p:grpSpPr>
          <a:xfrm>
            <a:off x="-6480" y="-6480"/>
            <a:ext cx="9156960" cy="6870960"/>
            <a:chOff x="-6480" y="-6480"/>
            <a:chExt cx="9156960" cy="6870960"/>
          </a:xfrm>
        </p:grpSpPr>
        <p:pic>
          <p:nvPicPr>
            <p:cNvPr id="243" name="Rectangle 7" descr=""/>
            <p:cNvPicPr/>
            <p:nvPr/>
          </p:nvPicPr>
          <p:blipFill>
            <a:blip r:embed="rId3"/>
            <a:stretch/>
          </p:blipFill>
          <p:spPr>
            <a:xfrm>
              <a:off x="-6480" y="-6480"/>
              <a:ext cx="9156960" cy="6870960"/>
            </a:xfrm>
            <a:prstGeom prst="rect">
              <a:avLst/>
            </a:prstGeom>
            <a:ln w="0">
              <a:noFill/>
            </a:ln>
          </p:spPr>
        </p:pic>
        <p:sp>
          <p:nvSpPr>
            <p:cNvPr id="24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245"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31b6fd"/>
              </a:gs>
              <a:gs pos="100000">
                <a:srgbClr val="31b6fd"/>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46"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5bd078"/>
              </a:gs>
              <a:gs pos="100000">
                <a:srgbClr val="5bd078"/>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4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4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25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251" name="PlaceHolder 3"/>
          <p:cNvSpPr>
            <a:spLocks noGrp="1"/>
          </p:cNvSpPr>
          <p:nvPr>
            <p:ph type="dt" idx="16"/>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9354-D2F5-49FD-8A8A-AED4265B0879}"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252" name="PlaceHolder 4"/>
          <p:cNvSpPr>
            <a:spLocks noGrp="1"/>
          </p:cNvSpPr>
          <p:nvPr>
            <p:ph type="ftr" idx="17"/>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253" name="PlaceHolder 5"/>
          <p:cNvSpPr>
            <a:spLocks noGrp="1"/>
          </p:cNvSpPr>
          <p:nvPr>
            <p:ph type="sldNum" idx="18"/>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84E3-D15F-4D18-8437-EBD093294D9A}"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0" name="Rectangle 7"/>
          <p:cNvGrpSpPr/>
          <p:nvPr/>
        </p:nvGrpSpPr>
        <p:grpSpPr>
          <a:xfrm>
            <a:off x="-6480" y="-6480"/>
            <a:ext cx="9156960" cy="6870960"/>
            <a:chOff x="-6480" y="-6480"/>
            <a:chExt cx="9156960" cy="6870960"/>
          </a:xfrm>
        </p:grpSpPr>
        <p:pic>
          <p:nvPicPr>
            <p:cNvPr id="291" name="Rectangle 7" descr=""/>
            <p:cNvPicPr/>
            <p:nvPr/>
          </p:nvPicPr>
          <p:blipFill>
            <a:blip r:embed="rId3"/>
            <a:stretch/>
          </p:blipFill>
          <p:spPr>
            <a:xfrm>
              <a:off x="-6480" y="-6480"/>
              <a:ext cx="9156960" cy="6870960"/>
            </a:xfrm>
            <a:prstGeom prst="rect">
              <a:avLst/>
            </a:prstGeom>
            <a:ln w="0">
              <a:noFill/>
            </a:ln>
          </p:spPr>
        </p:pic>
        <p:sp>
          <p:nvSpPr>
            <p:cNvPr id="2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293"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94"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31b6fd"/>
              </a:gs>
              <a:gs pos="100000">
                <a:srgbClr val="31b6fd"/>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95"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96"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9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29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299" name="PlaceHolder 3"/>
          <p:cNvSpPr>
            <a:spLocks noGrp="1"/>
          </p:cNvSpPr>
          <p:nvPr>
            <p:ph type="dt" idx="19"/>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2657-F29C-4B38-99F4-F57A2C55C440}"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300" name="PlaceHolder 4"/>
          <p:cNvSpPr>
            <a:spLocks noGrp="1"/>
          </p:cNvSpPr>
          <p:nvPr>
            <p:ph type="ftr" idx="20"/>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301" name="PlaceHolder 5"/>
          <p:cNvSpPr>
            <a:spLocks noGrp="1"/>
          </p:cNvSpPr>
          <p:nvPr>
            <p:ph type="sldNum" idx="21"/>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9B7D-A621-485C-98DD-57ADD271E9F9}"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7"/>
          <p:cNvGrpSpPr/>
          <p:nvPr/>
        </p:nvGrpSpPr>
        <p:grpSpPr>
          <a:xfrm>
            <a:off x="-6480" y="-6480"/>
            <a:ext cx="9156960" cy="6870960"/>
            <a:chOff x="-6480" y="-6480"/>
            <a:chExt cx="9156960" cy="6870960"/>
          </a:xfrm>
        </p:grpSpPr>
        <p:pic>
          <p:nvPicPr>
            <p:cNvPr id="339" name="Rectangle 7" descr=""/>
            <p:cNvPicPr/>
            <p:nvPr/>
          </p:nvPicPr>
          <p:blipFill>
            <a:blip r:embed="rId3"/>
            <a:stretch/>
          </p:blipFill>
          <p:spPr>
            <a:xfrm>
              <a:off x="-6480" y="-6480"/>
              <a:ext cx="9156960" cy="6870960"/>
            </a:xfrm>
            <a:prstGeom prst="rect">
              <a:avLst/>
            </a:prstGeom>
            <a:ln w="0">
              <a:noFill/>
            </a:ln>
          </p:spPr>
        </p:pic>
        <p:sp>
          <p:nvSpPr>
            <p:cNvPr id="34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341" name="Freeform 8"/>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5bd078"/>
              </a:gs>
              <a:gs pos="100000">
                <a:srgbClr val="5bd078"/>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342" name="Freeform 9"/>
          <p:cNvSpPr/>
          <p:nvPr/>
        </p:nvSpPr>
        <p:spPr>
          <a:xfrm>
            <a:off x="0" y="5381640"/>
            <a:ext cx="3286080" cy="1208160"/>
          </a:xfrm>
          <a:custGeom>
            <a:avLst/>
            <a:gdLst/>
            <a:ahLst/>
            <a:rect l="l" t="t" r="r" b="b"/>
            <a:pathLst>
              <a:path w="7227290" h="1207294">
                <a:moveTo>
                  <a:pt x="0" y="0"/>
                </a:moveTo>
                <a:lnTo>
                  <a:pt x="7227290" y="885825"/>
                </a:lnTo>
                <a:lnTo>
                  <a:pt x="0" y="1207294"/>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343" name="Freeform 10"/>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344" name="Freeform 11"/>
          <p:cNvSpPr/>
          <p:nvPr/>
        </p:nvSpPr>
        <p:spPr>
          <a:xfrm>
            <a:off x="0" y="5346720"/>
            <a:ext cx="3425760" cy="944640"/>
          </a:xfrm>
          <a:custGeom>
            <a:avLst/>
            <a:gdLst/>
            <a:ahLst/>
            <a:rect l="l" t="t" r="r" b="b"/>
            <a:pathLst>
              <a:path w="3426231" h="944725">
                <a:moveTo>
                  <a:pt x="1" y="0"/>
                </a:moveTo>
                <a:cubicBezTo>
                  <a:pt x="1" y="25222"/>
                  <a:pt x="0" y="50443"/>
                  <a:pt x="0" y="75665"/>
                </a:cubicBezTo>
                <a:lnTo>
                  <a:pt x="3204530" y="944725"/>
                </a:lnTo>
                <a:lnTo>
                  <a:pt x="3426231" y="923877"/>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34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346"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347" name="PlaceHolder 3"/>
          <p:cNvSpPr>
            <a:spLocks noGrp="1"/>
          </p:cNvSpPr>
          <p:nvPr>
            <p:ph type="dt" idx="22"/>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2108-D845-4B4C-AABF-2005BB863BEA}"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348" name="PlaceHolder 4"/>
          <p:cNvSpPr>
            <a:spLocks noGrp="1"/>
          </p:cNvSpPr>
          <p:nvPr>
            <p:ph type="ftr" idx="23"/>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349" name="PlaceHolder 5"/>
          <p:cNvSpPr>
            <a:spLocks noGrp="1"/>
          </p:cNvSpPr>
          <p:nvPr>
            <p:ph type="sldNum" idx="24"/>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073E-38AB-4381-BE74-D77DF61A3657}"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6" name="Rectangle 7"/>
          <p:cNvGrpSpPr/>
          <p:nvPr/>
        </p:nvGrpSpPr>
        <p:grpSpPr>
          <a:xfrm>
            <a:off x="-6480" y="-6480"/>
            <a:ext cx="9156960" cy="6870960"/>
            <a:chOff x="-6480" y="-6480"/>
            <a:chExt cx="9156960" cy="6870960"/>
          </a:xfrm>
        </p:grpSpPr>
        <p:pic>
          <p:nvPicPr>
            <p:cNvPr id="387" name="Rectangle 7" descr=""/>
            <p:cNvPicPr/>
            <p:nvPr/>
          </p:nvPicPr>
          <p:blipFill>
            <a:blip r:embed="rId3"/>
            <a:stretch/>
          </p:blipFill>
          <p:spPr>
            <a:xfrm>
              <a:off x="-6480" y="-6480"/>
              <a:ext cx="9156960" cy="6870960"/>
            </a:xfrm>
            <a:prstGeom prst="rect">
              <a:avLst/>
            </a:prstGeom>
            <a:ln w="0">
              <a:noFill/>
            </a:ln>
          </p:spPr>
        </p:pic>
        <p:sp>
          <p:nvSpPr>
            <p:cNvPr id="38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389"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390"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31b6fd"/>
              </a:gs>
              <a:gs pos="100000">
                <a:srgbClr val="31b6fd"/>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391"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392"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3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39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395" name="PlaceHolder 3"/>
          <p:cNvSpPr>
            <a:spLocks noGrp="1"/>
          </p:cNvSpPr>
          <p:nvPr>
            <p:ph type="dt" idx="25"/>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7CEB8-DD00-4B05-AD9C-9F899E2E34E9}" type="datetime">
              <a:rPr b="0" lang="en-US" sz="900" spc="-1" strike="noStrike">
                <a:solidFill>
                  <a:srgbClr val="4d4d4d"/>
                </a:solidFill>
                <a:latin typeface="Times New Roman"/>
              </a:rPr>
              <a:t>07/30/26</a:t>
            </a:fld>
            <a:endParaRPr b="0" lang="en-US" sz="900" spc="-1" strike="noStrike">
              <a:solidFill>
                <a:srgbClr val="000000"/>
              </a:solidFill>
              <a:latin typeface="Times New Roman"/>
            </a:endParaRPr>
          </a:p>
        </p:txBody>
      </p:sp>
      <p:sp>
        <p:nvSpPr>
          <p:cNvPr id="396" name="PlaceHolder 4"/>
          <p:cNvSpPr>
            <a:spLocks noGrp="1"/>
          </p:cNvSpPr>
          <p:nvPr>
            <p:ph type="ftr" idx="26"/>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397" name="PlaceHolder 5"/>
          <p:cNvSpPr>
            <a:spLocks noGrp="1"/>
          </p:cNvSpPr>
          <p:nvPr>
            <p:ph type="sldNum" idx="27"/>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903B-8978-4553-9FED-8610467F4141}"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TESTICLES</a:t>
            </a:r>
            <a:endParaRPr b="0" lang="en-US" sz="3600" spc="-1" strike="noStrike">
              <a:solidFill>
                <a:srgbClr val="ffffff"/>
              </a:solidFill>
              <a:latin typeface="Candara"/>
            </a:endParaRPr>
          </a:p>
        </p:txBody>
      </p:sp>
      <p:sp>
        <p:nvSpPr>
          <p:cNvPr id="586" name=""/>
          <p:cNvSpPr txBox="1"/>
          <p:nvPr/>
        </p:nvSpPr>
        <p:spPr>
          <a:xfrm>
            <a:off x="685800" y="1600200"/>
            <a:ext cx="7772400" cy="3733920"/>
          </a:xfrm>
          <a:prstGeom prst="rect">
            <a:avLst/>
          </a:prstGeom>
          <a:noFill/>
          <a:ln w="0">
            <a:noFill/>
          </a:ln>
        </p:spPr>
        <p:txBody>
          <a:bodyPr lIns="0" rIns="0" anchor="t">
            <a:normAutofit/>
          </a:bodyPr>
          <a:p>
            <a:pPr marL="343080" indent="-273240">
              <a:lnSpc>
                <a:spcPct val="9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e testes are part of the male reproductive system and are two oval organs located in the scrotum. </a:t>
            </a:r>
            <a:endParaRPr b="0" lang="en-US" sz="2000" spc="-1" strike="noStrike">
              <a:solidFill>
                <a:srgbClr val="ffffff"/>
              </a:solidFill>
              <a:latin typeface="Candara"/>
            </a:endParaRPr>
          </a:p>
          <a:p>
            <a:pPr marL="343080" indent="-273240">
              <a:lnSpc>
                <a:spcPct val="9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e testes are responsible for producing testosterone and estrogen, both of which are steroid hormones</a:t>
            </a:r>
            <a:endParaRPr b="0" lang="en-US" sz="2000" spc="-1" strike="noStrike">
              <a:solidFill>
                <a:srgbClr val="ffffff"/>
              </a:solidFill>
              <a:latin typeface="Candara"/>
            </a:endParaRPr>
          </a:p>
          <a:p>
            <a:pPr lvl="1" marL="743040" indent="-273240">
              <a:lnSpc>
                <a:spcPct val="9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Testosterone is responsible for stimulating the development of secondary sex characteristics, a growth spurt at puberty, the development of sex organs, and  stimulating sperm production.</a:t>
            </a:r>
            <a:endParaRPr b="0" lang="en-US" sz="1600" spc="-1" strike="noStrike">
              <a:solidFill>
                <a:srgbClr val="ffffff"/>
              </a:solidFill>
              <a:latin typeface="Candara"/>
            </a:endParaRPr>
          </a:p>
          <a:p>
            <a:pPr marL="343080" indent="-273240">
              <a:lnSpc>
                <a:spcPct val="9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e testes also function in conjunction with the anterior pituitary hormones FSH and LH.</a:t>
            </a:r>
            <a:endParaRPr b="0" lang="en-US" sz="2000" spc="-1" strike="noStrike">
              <a:solidFill>
                <a:srgbClr val="ffffff"/>
              </a:solidFill>
              <a:latin typeface="Candara"/>
            </a:endParaRPr>
          </a:p>
          <a:p>
            <a:pPr lvl="1" marL="743040" indent="-273240">
              <a:lnSpc>
                <a:spcPct val="9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Follicle-Stimulating Hormone regulates the development, growth, pubertal maturation, and reproductive processes of the body.</a:t>
            </a:r>
            <a:endParaRPr b="0" lang="en-US" sz="1600" spc="-1" strike="noStrike">
              <a:solidFill>
                <a:srgbClr val="ffffff"/>
              </a:solidFill>
              <a:latin typeface="Candara"/>
            </a:endParaRPr>
          </a:p>
          <a:p>
            <a:pPr lvl="1" marL="743040" indent="-273240">
              <a:lnSpc>
                <a:spcPct val="9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Luteinizing Hormone stimulates the production of testosterone.</a:t>
            </a:r>
            <a:endParaRPr b="0" lang="en-US" sz="1600" spc="-1" strike="noStrike">
              <a:solidFill>
                <a:srgbClr val="ffffff"/>
              </a:solidFill>
              <a:latin typeface="Candara"/>
            </a:endParaRPr>
          </a:p>
        </p:txBody>
      </p:sp>
      <p:sp>
        <p:nvSpPr>
          <p:cNvPr id="587" name="Footer Placeholder 5"/>
          <p:cNvSpPr/>
          <p:nvPr/>
        </p:nvSpPr>
        <p:spPr>
          <a:xfrm>
            <a:off x="7696080" y="6324480"/>
            <a:ext cx="1371600" cy="30492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Candara"/>
              </a:rPr>
              <a:t>SONAM SHERPA</a:t>
            </a:r>
            <a:endParaRPr b="0" lang="en-US" sz="9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TESTICLE DISORDERS</a:t>
            </a:r>
            <a:endParaRPr b="0" lang="en-US" sz="3600" spc="-1" strike="noStrike">
              <a:solidFill>
                <a:srgbClr val="ffffff"/>
              </a:solidFill>
              <a:latin typeface="Candara"/>
            </a:endParaRPr>
          </a:p>
        </p:txBody>
      </p:sp>
      <p:sp>
        <p:nvSpPr>
          <p:cNvPr id="589" name=""/>
          <p:cNvSpPr txBox="1"/>
          <p:nvPr/>
        </p:nvSpPr>
        <p:spPr>
          <a:xfrm>
            <a:off x="685800" y="1600200"/>
            <a:ext cx="7772400" cy="3733920"/>
          </a:xfrm>
          <a:prstGeom prst="rect">
            <a:avLst/>
          </a:prstGeom>
          <a:noFill/>
          <a:ln w="0">
            <a:noFill/>
          </a:ln>
        </p:spPr>
        <p:txBody>
          <a:bodyPr lIns="0" rIns="0" anchor="t">
            <a:normAutofit fontScale="98000"/>
          </a:bodyPr>
          <a:p>
            <a:pPr marL="335880" indent="-267480">
              <a:lnSpc>
                <a:spcPct val="8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ndara"/>
              </a:rPr>
              <a:t>Testicular Cancer</a:t>
            </a:r>
            <a:endParaRPr b="0" lang="en-US" sz="1900" spc="-1" strike="noStrike">
              <a:solidFill>
                <a:srgbClr val="ffffff"/>
              </a:solidFill>
              <a:latin typeface="Candara"/>
            </a:endParaRPr>
          </a:p>
          <a:p>
            <a:pPr lvl="1" marL="727920" indent="-267480">
              <a:lnSpc>
                <a:spcPct val="8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ndara"/>
              </a:rPr>
              <a:t>Testicular cancer occurs when abnormal cells in the testicles divide uncontrollably. It can develop in one or both of the testicles and is most common in men between the ages of 15 and 40. Some indications are a lump on the testicles, enlargement of the testicles, an ache in the groin region, or a pulling sensation in the testicles.</a:t>
            </a:r>
            <a:endParaRPr b="0" lang="en-US" sz="1500" spc="-1" strike="noStrike">
              <a:solidFill>
                <a:srgbClr val="ffffff"/>
              </a:solidFill>
              <a:latin typeface="Candara"/>
            </a:endParaRPr>
          </a:p>
          <a:p>
            <a:pPr marL="335880" indent="-267480">
              <a:lnSpc>
                <a:spcPct val="8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ndara"/>
              </a:rPr>
              <a:t>Cryptorchidism</a:t>
            </a:r>
            <a:endParaRPr b="0" lang="en-US" sz="1900" spc="-1" strike="noStrike">
              <a:solidFill>
                <a:srgbClr val="ffffff"/>
              </a:solidFill>
              <a:latin typeface="Candara"/>
            </a:endParaRPr>
          </a:p>
          <a:p>
            <a:pPr lvl="1" marL="727920" indent="-267480">
              <a:lnSpc>
                <a:spcPct val="8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ndara"/>
              </a:rPr>
              <a:t>Cryptorchidism is when one or both of the testicles do not descend from the abdomen to the scrotum during normal male development,  and it is a major risk factor for testicular cancer. </a:t>
            </a:r>
            <a:endParaRPr b="0" lang="en-US" sz="1500" spc="-1" strike="noStrike">
              <a:solidFill>
                <a:srgbClr val="ffffff"/>
              </a:solidFill>
              <a:latin typeface="Candara"/>
            </a:endParaRPr>
          </a:p>
          <a:p>
            <a:pPr marL="335880" indent="-267480">
              <a:lnSpc>
                <a:spcPct val="8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ndara"/>
              </a:rPr>
              <a:t>Hypogonadism</a:t>
            </a:r>
            <a:endParaRPr b="0" lang="en-US" sz="1900" spc="-1" strike="noStrike">
              <a:solidFill>
                <a:srgbClr val="ffffff"/>
              </a:solidFill>
              <a:latin typeface="Candara"/>
            </a:endParaRPr>
          </a:p>
          <a:p>
            <a:pPr lvl="1" marL="727920" indent="-267480">
              <a:lnSpc>
                <a:spcPct val="8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ndara"/>
              </a:rPr>
              <a:t>Hypogonadism is a condition where the testicles do not produce enough testosterone. Primary hypogonadism occurs when there is an abnormality in the testicles, and secondary hypogonadism occurs when there is a problem with the pituitary gland. Hypogonadism can  cause erectile dysfunction, decreased sex drive, decrease in hair growth, decrease in muscle mass, and enlarged male breast tissue.</a:t>
            </a:r>
            <a:endParaRPr b="0" lang="en-US" sz="1500" spc="-1" strike="noStrike">
              <a:solidFill>
                <a:srgbClr val="ffffff"/>
              </a:solidFill>
              <a:latin typeface="Candara"/>
            </a:endParaRPr>
          </a:p>
        </p:txBody>
      </p:sp>
      <p:sp>
        <p:nvSpPr>
          <p:cNvPr id="590" name="Footer Placeholder 3"/>
          <p:cNvSpPr/>
          <p:nvPr/>
        </p:nvSpPr>
        <p:spPr>
          <a:xfrm>
            <a:off x="7696080" y="6248520"/>
            <a:ext cx="1219320" cy="38088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Candara"/>
              </a:rPr>
              <a:t>SONAM SHERPA</a:t>
            </a:r>
            <a:endParaRPr b="0" lang="en-US" sz="9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03:32:26Z</dcterms:created>
  <dc:creator>Sonam Sherpa</dc:creator>
  <dc:description/>
  <dc:language>en-US</dc:language>
  <cp:lastModifiedBy>gstover</cp:lastModifiedBy>
  <dcterms:modified xsi:type="dcterms:W3CDTF">2012-03-08T15:24:36Z</dcterms:modified>
  <cp:revision>8</cp:revision>
  <dc:subject/>
  <dc:title>Testicles</dc:title>
</cp:coreProperties>
</file>